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6961-ED02-4A95-B94B-E8E12A2D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5785-B084-4C77-A5C9-87B8E515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4C5-91EE-4F97-ABC3-5EEFE92D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D73-00BD-4C00-A1AA-FEB0F120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7429-5DAA-4884-8E0D-EB320888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8800-8FD4-4495-98DC-7D468E2B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223A-9E0C-4251-BCC5-38934F77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F3C9-5207-4416-BDC2-1ECD3416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70D8-7815-4959-ABF0-4B7E0263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4FE9-F82C-4868-8376-5FE2EDB4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8418-620F-4995-82C6-102C52B2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F675-F36C-4ED5-80B1-1B7458FA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5502-7A05-4AEC-B3C1-699CA572A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ashabak.org/blog/wp-content/howmuch.jpg&amp;imgrefurl=http://hashabak.org/blog/%3Fp%3D408&amp;usg=__4xP93hgmt0JnfXLyz7mQ9FqP3L8=&amp;h=671&amp;w=500&amp;sz=116&amp;hl=en&amp;start=6&amp;sig2=OejEGrL-Oslz9pdQIRHrJw&amp;um=1&amp;tbnid=SiPrNZAxpr6WmM:&amp;tbnh=138&amp;tbnw=103&amp;ei=8MqbSZGmCqPeMOz6yJ8F&amp;prev=/images%3Fq%3D%25D7%259B%25D7%259E%25D7%2594%2B%2B%25D7%2596%25D7%2594%2B%2B%25D7%25A2%25D7%2595%25D7%259C%25D7%2594%2B%2B%25D7%2599%25D7%25A9%25D7%25A8%25D7%2590%25D7%259C%26um%3D1%26hl%3Den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konteaki-furniture.co.uk/images/new_oak_lfe_single_bed.jpg&amp;imgrefurl=http://www.konteaki-furniture.co.uk/beds-c-60.html%3Fpage%3D2%26sort%3D2a&amp;usg=__rRmqcW0Dhxl7-IwgDhzTDesKHK8=&amp;h=539&amp;w=600&amp;sz=19&amp;hl=en&amp;start=3&amp;sig2=2YDAQiR7iXK33SshQgTKpw&amp;um=1&amp;tbnid=--cKyqiv5L28PM:&amp;tbnh=121&amp;tbnw=135&amp;ei=X8-bSeSBJImiMtaJ-JkF&amp;prev=/images%3Fq%3Dbed%26um%3D1%26hl%3Den%26rlz%3D1T4SKPB_enUS283US283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enoirhotel.com/images/0704_RH_7094B.jpg&amp;imgrefurl=http://www.renoirhotel.com/rooms/room2.html&amp;usg=___fi2O7qcjCfkoItxVe28h__Yh6o=&amp;h=1000&amp;w=1500&amp;sz=249&amp;hl=en&amp;start=15&amp;sig2=zy_DptGx5VHez4ZSH65nmQ&amp;um=1&amp;tbnid=7jjELjtufmpuEM:&amp;tbnh=100&amp;tbnw=150&amp;ei=pM-bSaG-KaPeMOn89J8F&amp;prev=/images%3Fq%3D2%2B%2Bbeds%26um%3D1%26hl%3Den%26rlz%3D1T4SKPB_enUS283US283%26sa%3D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reehugger.com/buygreen-knu-round-dining-table.jpg&amp;imgrefurl=http://www.treehugger.com/files/2007/10/buygreen-dining-tables.php&amp;usg=__Y63rFbVrNnX1LNl8TLT3zdx0epU=&amp;h=415&amp;w=468&amp;sz=18&amp;hl=en&amp;start=2&amp;sig2=DR_buNGlQg61eRbw3VqYUw&amp;um=1&amp;tbnid=zCzxDEfaMQ5K9M:&amp;tbnh=114&amp;tbnw=128&amp;ei=DNCbSdXfFKW-MfPU2ZAF&amp;prev=/images%3Fq%3Dtable%26um%3D1%26hl%3Den%26rlz%3D1T4SKPB_enUS283US283%26sa%3DN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imewarptoys.com/2tables.jpg&amp;imgrefurl=http://www.timewarptoys.com/misc.htm&amp;usg=__-AYQIwKGXGe8KNWeIhRxjhNLFDQ=&amp;h=580&amp;w=416&amp;sz=62&amp;hl=en&amp;start=3&amp;sig2=uhKb1r6XDyo-gSkcFQfAmg&amp;um=1&amp;tbnid=BBq8DDRub3jiAM:&amp;tbnh=134&amp;tbnw=96&amp;ei=XdCbSZ7NFI_aNPz3qJYF&amp;prev=/images%3Fq%3D2%2Btables%26um%3D1%26hl%3Den%26rlz%3D1T4SKPB_enUS283US283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oneofakindantiques.com/3589_antique_french_victorian_game_table_1.jpg&amp;imgrefurl=http://www.oneofakindantiques.com/catalog/3589_antique_french_inlaid_and_marquetry_game_table_1.htm&amp;usg=___-juqWhy5OLeP-_GOaUnifxfGYw=&amp;h=595&amp;w=640&amp;sz=50&amp;hl=en&amp;start=7&amp;sig2=bP-BjLWXJEwTEaNjqdxRFw&amp;um=1&amp;tbnid=xhZa7sIHxwiY9M:&amp;tbnh=127&amp;tbnw=137&amp;ei=sNCbSYDQFIb4NPSWsJQF&amp;prev=/images%3Fq%3Dantique%2B%2Btable%26um%3D1%26hl%3Den%26rlz%3D1T4SKPB_enUS283US283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alariaenterprises.com/images3/5620b.jpg&amp;imgrefurl=http://www.talariaenterprises.com/product_lists/egyptian_sculpture_pg4.html&amp;usg=__IHcHJyGt_jUU7hILpXNvptQK5IY=&amp;h=288&amp;w=223&amp;sz=36&amp;hl=en&amp;start=5&amp;sig2=ktuz9d9pFnDVWE7Dx_jl2Q&amp;um=1&amp;tbnid=i0K2imNx7tqxYM:&amp;tbnh=115&amp;tbnw=89&amp;ei=89CbSdzwAZC2MYG64J0F&amp;prev=/images%3Fq%3Dancient%2B%2Bchair%26um%3D1%26hl%3Den%26rlz%3D1T4SKPB_enUS283US283%26sa%3D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rezon8dropbox.com/dropbox/rezon8web/resources/modern-chair-2.jpg&amp;imgrefurl=http://rezon8dropbox.com/dropbox/rezon8web/resources/&amp;usg=__-fSpcmpUrxtiCon_W7VSDBM-LvM=&amp;h=300&amp;w=300&amp;sz=18&amp;hl=en&amp;start=11&amp;sig2=ST-PKGflbffMDhQBauMDBg&amp;um=1&amp;tbnid=P7xRQHRtsJirCM:&amp;tbnh=116&amp;tbnw=116&amp;ei=atGbSeHzOqPeMMr89J8F&amp;prev=/images%3Fq%3Dmodern%2B%2Bchair%26um%3D1%26hl%3Den%26rlz%3D1T4SKPB_enUS283US283%26sa%3D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scoartllc.com/Images/Furnature/f0.jpg&amp;imgrefurl=http://www.frescoartllc.com/Furniture.asp&amp;usg=__m6sBCQ8vbZ1K9wGykff2GeUGMd0=&amp;h=552&amp;w=500&amp;sz=22&amp;hl=en&amp;start=4&amp;sig2=U_U9oKMTgZ1uJWoIqIUlNw&amp;um=1&amp;tbnid=txvwHlrECUoViM:&amp;tbnh=133&amp;tbnw=120&amp;ei=J9KbSdnWKI_aNMr3qJYF&amp;prev=/images%3Fq%3Dold%2B%2Bfurniture%26um%3D1%26hl%3Den%26sa%3DN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images.google.com/imgres?imgurl=http://ohjoy.blogs.com/my_weblog/images/lauren_rossi.jpg&amp;imgrefurl=http://ohjoy.blogs.com/my_weblog/local_finds/page/2/&amp;usg=__0Jvy3FXCzGVpwd6fSceo8I165vA=&amp;h=470&amp;w=470&amp;sz=154&amp;hl=en&amp;start=22&amp;sig2=2u0yX9P1SgOLvZuCCTgKRQ&amp;um=1&amp;tbnid=y7EXvWgBP5GKnM:&amp;tbnh=129&amp;tbnw=129&amp;ei=U9KbSd7fCYb4NPSWsJQF&amp;prev=/images%3Fq%3Dold%2B%2Bfurniture%26start%3D21%26um%3D1%26hl%3Den%26sa%3DN" TargetMode="External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tohanim.blogli.co.il/files/2007/10/prigat.jpg&amp;imgrefurl=http://tohanim.blogli.co.il/archives/category/%25D7%25AA%25D7%25A4%25D7%2595%25D7%2596%25D7%2599%25D7%259D/&amp;usg=__khPiA2FRSF1gPU_5QcK-zh4ObUs=&amp;h=278&amp;w=200&amp;sz=20&amp;hl=en&amp;start=2&amp;sig2=mNmo4ooHuaeiyH5GWhpLzg&amp;um=1&amp;tbnid=oWyPlTuFM_8ngM:&amp;tbnh=114&amp;tbnw=82&amp;ei=B8ybSd_7JomiMsGH4JgF&amp;prev=/images%3Fq%3D%25D7%259E%25D7%2599%25D7%25A5%2B%25D7%25AA%25D7%25A4%25D7%2595%25D7%2596%25D7%2599%25D7%259D%26um%3D1%26hl%3Den%26rlz%3D1T4SKPB_enUS283US283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sunbar.co.il/files/images/258.jpg&amp;imgrefurl=http://www.sunbar.co.il/rec/120&amp;usg=__sATSxXlo7rCpKd_cRr1QezgTgU8=&amp;h=300&amp;w=196&amp;sz=8&amp;hl=en&amp;start=3&amp;sig2=RN7rTY9aidc6AZe6YmfRZQ&amp;um=1&amp;tbnid=GNED32PEDMl1AM:&amp;tbnh=116&amp;tbnw=76&amp;ei=B8ybSd_7JomiMsGH4JgF&amp;prev=/images%3Fq%3D%25D7%259E%25D7%2599%25D7%25A5%2B%25D7%25AA%25D7%25A4%25D7%2595%25D7%2596%25D7%2599%25D7%259D%26um%3D1%26hl%3Den%26rlz%3D1T4SKPB_enUS283US283%26sa%3D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imania.co.il/bookimages/loadJpg.php%3FimageName%3Dcovers3/35873.jpg&amp;imgrefurl=http://simania.co.il/bookdetails.php%3Fitem_id%3D35873&amp;usg=__MAywdNOfweLDBzm0HNA_Pzu4ITQ=&amp;h=314&amp;w=240&amp;sz=21&amp;hl=en&amp;start=5&amp;sig2=qvS1Uqxh5RAG4aeSC3hSJw&amp;um=1&amp;tbnid=_Kjv7sYtWWiNAM:&amp;tbnh=117&amp;tbnw=89&amp;ei=d8ybSYGNIpLgM8_SuJIF&amp;prev=/images%3Fq%3D%25D7%259E%25D7%2594%2B%2B%25D7%2594%25D7%25A9%25D7%25A2%25D7%2594%253F%26um%3D1%26hl%3Den%26rlz%3D1T4SKPB_enUS283US283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etc.usf.edu/clipart/33000/33004/clock-02-10_33004_md.gif&amp;imgrefurl=http://etc.usf.edu/clipart/33000/33004/clock-02-10_33004.htm&amp;usg=__azyq1IZg9f_MTaU7-uImUFe6Ijo=&amp;h=350&amp;w=350&amp;sz=7&amp;hl=en&amp;start=2&amp;sig2=1kSDo9SWleGoJxa2Ezor9A&amp;um=1&amp;tbnid=ua7OCsNVJkGTsM:&amp;tbnh=120&amp;tbnw=120&amp;ei=6sybScOLKZLgM8_SuJIF&amp;prev=/images%3Fq%3Dclock%2Bsays%2B%2B2:10%26um%3D1%26hl%3Den%26rlz%3D1T4SKPB_enUS283US283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etc.usf.edu/clipart/33000/33059/clock-03-05_33059_md.gif&amp;imgrefurl=http://etc.usf.edu/clipart/33000/33059/clock-03-05_33059.htm&amp;usg=__ViVuX8ngzSiCPNV15jh7KL40BwQ=&amp;h=350&amp;w=350&amp;sz=7&amp;hl=en&amp;start=2&amp;sig2=0A0XCD1kkdabf0pLaQVaIQ&amp;um=1&amp;tbnid=12GnTBXCv3rblM:&amp;tbnh=120&amp;tbnw=120&amp;ei=IM2bSfOWKpLgM4nRnJAF&amp;prev=/images%3Fq%3Dclock%2Bsays%2B%2B3:05%26um%3D1%26hl%3Den%26rlz%3D1T4SKPB_enUS283US283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stockphoto.com/file_thumbview_approve/2991442/2/istockphoto_2991442_almost_quiting_time_clock_at_4_50.jpg&amp;imgrefurl=http://www.istockphoto.com/file_closeup/specific_objects/everyday_items/clocks/2991442_almost_quiting_time_clock_at_4_50.php%3Fid%3D2991442&amp;usg=__ltjHC7c5F4Nx6z35jGaTJI3krVk=&amp;h=380&amp;w=374&amp;sz=84&amp;hl=en&amp;start=18&amp;sig2=aS_R7bObEofP6HidpLAZHQ&amp;um=1&amp;tbnid=W08tLRRaeScaDM:&amp;tbnh=123&amp;tbnw=121&amp;ei=WM2bSfvGJo_aNKD2kJUF&amp;prev=/images%3Fq%3Dclock%2Bsays%2B%2B4:50%26um%3D1%26hl%3Den%26rlz%3D1T4SKPB_enUS283US283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etc.usf.edu/clipart/33500/33599/clock-12-05_33599_lg.gif&amp;imgrefurl=http://etc.usf.edu/clipart/33500/33599/clock-12-05_33599.htm&amp;usg=__oCtIS6bXq4JVb7vEA-sfqB5a8HI=&amp;h=700&amp;w=700&amp;sz=15&amp;hl=en&amp;start=1&amp;sig2=uWFQNbIvF5bsxmX2XaKDrA&amp;um=1&amp;tbnid=7eGykJmx9j8x_M:&amp;tbnh=140&amp;tbnw=140&amp;ei=s82bSdvgDomiMs-H4JgF&amp;prev=/images%3Fq%3Dclock%2Bsays%2B%2B12:05%26um%3D1%26hl%3Den%26rlz%3D1T4SKPB_enUS283US283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llinoisfurniture.com/yahoo_site_admin/assets/images/Billboard.303102353_std.jpg&amp;imgrefurl=http://illinoisfurniture.com/contact_us&amp;usg=__N7vXd74NY7tYPqlwjdLYVasYlZs=&amp;h=540&amp;w=720&amp;sz=50&amp;hl=en&amp;start=12&amp;sig2=WxD0J8WwdkVJ90dttwrVPA&amp;um=1&amp;tbnid=oQ90KRfucw-wxM:&amp;tbnh=105&amp;tbnw=140&amp;ei=T86bSffdCJC2Me268J0F&amp;prev=/images%3Fq%3Dfurniture%2BIL%26um%3D1%26hl%3Den%26rlz%3D1T4SKPB_enUS283US283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darvin.com/current/img/brands/berkline_main.jpg&amp;imgrefurl=http://www.darvin.com/manufacturers.aspx%3Fmfgid%3D1479333337&amp;usg=__Y2FEiVR2g6xWmbWIa8dVTp5_Drs=&amp;h=303&amp;w=550&amp;sz=49&amp;hl=en&amp;start=7&amp;sig2=vxs6TgBBJvRS-rS1yemcbA&amp;um=1&amp;tbnid=-JUjmO7D3ZPpXM:&amp;tbnh=73&amp;tbnw=133&amp;ei=T86bSffdCJC2Me268J0F&amp;prev=/images%3Fq%3Dfurniture%2BIL%26um%3D1%26hl%3Den%26rlz%3D1T4SKPB_enUS283US283%26sa%3D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designernotebook.canedodecor.com/wp-content/uploads/2008/02/il-furniture.jpg&amp;imgrefurl=http://designernotebook.canedodecor.com/%3Fm%3D200802&amp;usg=__Q__ppRAMuOpDXUCVifbhm35XI8s=&amp;h=288&amp;w=480&amp;sz=37&amp;hl=en&amp;start=1&amp;sig2=0bQstUlun7p3ymDV9L58zg&amp;um=1&amp;tbnid=-Xcw3qcWN7tYBM:&amp;tbnh=77&amp;tbnw=129&amp;ei=T86bSffdCJC2Me268J0F&amp;prev=/images%3Fq%3Dfurniture%2BIL%26um%3D1%26hl%3Den%26rlz%3D1T4SKPB_enUS283US283%26sa%3DG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codesignz.com/Merchant2/graphics/00000001/ED_02SideChair_F.jpg&amp;imgrefurl=http://fatknowledge.blogspot.com/2008_01_01_archive.html&amp;usg=__344J6jDz_wwozRFex44knrKuEDc=&amp;h=460&amp;w=350&amp;sz=11&amp;hl=en&amp;start=1&amp;sig2=VGHPZJhPfxZKlHlxRFPsHQ&amp;um=1&amp;tbnid=YyqgsJOTX_8O9M:&amp;tbnh=128&amp;tbnw=97&amp;ei=086bSZf4K6W-MY_V2ZAF&amp;prev=/images%3Fq%3Dchair%26um%3D1%26hl%3Den%26rlz%3D1T4SKPB_enUS283US283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ezeen.com/wp-content/uploads/2008/07/ercol-and-bucks-james-moss-chair-2.jpg&amp;imgrefurl=http://www.dezeen.com/2008/07/03/buckinghamshire-new-university-at-ercol/&amp;usg=__r6FX_ea3QjgoytMa-RBvtoSfwao=&amp;h=335&amp;w=450&amp;sz=39&amp;hl=en&amp;start=9&amp;sig2=7aAVutxsXbMuKl-S5rUi8w&amp;um=1&amp;tbnid=pJhuKtzVCMMfpM:&amp;tbnh=95&amp;tbnw=127&amp;ei=Ec-bSb-XB6W-MfXU2ZAF&amp;prev=/images%3Fq%3Dchair%2B%2B2%2Bchairs%26um%3D1%26hl%3Den%26rlz%3D1T4SKPB_enUS283US283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 (does) it  cos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כמה זה  עולה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3276720"/>
            <a:ext cx="2233800" cy="299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523880" y="3330720"/>
            <a:ext cx="312444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 זא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יט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9040" y="2852640"/>
            <a:ext cx="338616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אלה  ?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_ _ _ _ 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תי  מיטות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7760" y="2952720"/>
            <a:ext cx="452412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__ __ __ __ 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ולחן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2886120"/>
            <a:ext cx="39621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אלה  ?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__ __ __ __ __ 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שני  שולחנות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2790720"/>
            <a:ext cx="26956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ה  ז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  __ __ __ __ __  </a:t>
            </a:r>
            <a:br>
              <a:rPr sz="4000"/>
            </a:b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__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0010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ולחן   עתיק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3505320"/>
            <a:ext cx="33526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זה  __ __ __ ___    __ __ __ __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מצר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כיסא  עתי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2590920"/>
            <a:ext cx="261792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   __ __ 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כיסא  חדש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19400" y="287640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  __ __ __ __ __  חד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שולחן</a:t>
            </a: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143160" y="2000160"/>
            <a:ext cx="39434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פה  יש  הרבה  _ _ _ _ _ _ ישנ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רהיטים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4572000"/>
            <a:ext cx="1512720" cy="1676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62320" y="2819520"/>
            <a:ext cx="2133360" cy="213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181480" y="3886200"/>
            <a:ext cx="3133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חנות  יש  רק  _ _ _ _ _ _  חדש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רהיטים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62520" y="22860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 __ __ __ __ __ 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מיץ  תפוזים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81400" y="2886120"/>
            <a:ext cx="2583000" cy="3591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38280" y="2743200"/>
            <a:ext cx="16225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  __ __ __  __ 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ה  השעה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84600" y="2871720"/>
            <a:ext cx="2741760" cy="3605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3880" y="3200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השע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שלוש  וחמיש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00680" y="2857680"/>
            <a:ext cx="3162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השע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עשרה  לחמש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2843280"/>
            <a:ext cx="304956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השע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תים עשרה וחמיש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05280" y="2762280"/>
            <a:ext cx="35622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אל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__ 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רהיטים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32004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4038480"/>
            <a:ext cx="2743200" cy="1505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1427040"/>
            <a:ext cx="266688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כיסא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0120" y="2819520"/>
            <a:ext cx="26557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ה  אלה  ?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__ __ __ __ __ 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ני  כיסאות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7200" y="2976480"/>
            <a:ext cx="411012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8:46:01Z</dcterms:created>
  <dc:creator>Preferred Customer</dc:creator>
  <dc:description/>
  <dc:language>en-US</dc:language>
  <cp:lastModifiedBy>aschlezinger</cp:lastModifiedBy>
  <dcterms:modified xsi:type="dcterms:W3CDTF">2011-02-17T18:29:46Z</dcterms:modified>
  <cp:revision>2</cp:revision>
  <dc:subject/>
  <dc:title>How much  (does) it  cost? </dc:title>
</cp:coreProperties>
</file>